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A2743-E9A9-47F3-B2DB-7499C2441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2977-640F-4402-B6F1-222B521C3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69B4-892D-43CE-ACCB-4B2AFC134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AA22E-C050-4895-9F70-A2C5F0007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5467-2628-49B1-A825-B21065BB5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32C8D-0C14-446F-82D4-650E5C5D5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1DED-B313-4BCC-B85E-F13ECC564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2FBDB-E10F-4E6A-BCA4-D37013B56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86B04-551B-43B1-86FD-11AEC790C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D0CB-EA2A-4F1C-87D5-4A1E4FCDF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2D3F-A112-4955-A7A2-504ED824C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FBDE-33F2-4A5C-8B6F-720E5C24E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EB5CE-C8B7-4172-A542-3C2625D7B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37974-AA81-4055-A408-5C6EE0987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82C50-EDF9-49EA-B86E-6FEE98914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BC4FA-D330-486D-9E0C-5B6C7FC34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6A0B49-D8B2-4F3E-B4B3-BDED7C746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7E7C9-5BC3-4537-A217-7EF22AF77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11637-BB9B-444F-8DDC-E91DF00C2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68D6D-CE66-4185-B881-DD0EBB535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264DF-296B-48DE-8E54-0CE4E33B6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62B11-6D05-4B1A-9346-5D0AB643D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4D05D-6E82-45FF-B44C-E15CC9FD1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88D09-BF14-480F-AEE8-1108EEB5A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8552A-640F-4DC6-91EB-4A2DCA016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8A572-FEC7-4D6E-ACD9-6B7DE3497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AA8FF-138D-4E46-B086-59C2791B1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16FB07-1704-4914-A3F9-3249A86515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9C0E6D-5157-4188-9748-DFAFA0CDB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48D8F-B09F-4FBB-9EC7-F6D85E353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6169B-0AE0-4EDB-8ED3-4BE172501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4752E-42F2-4492-B4F2-D7F87F6AD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A08BD-4F5D-4AA5-8BE7-715ED1A20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C6331-8259-4FE9-B476-632EF3AEC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908D3-74CF-4D35-8252-B4C67B8D1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03D6A-E446-46A7-AC97-59083A694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841C5-D2D2-4A48-A426-AD6F59CB58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Click to edit the outline text format</a:t>
            </a:r>
            <a:endParaRPr b="0" lang="en-US" sz="3200" spc="-1" strike="noStrike">
              <a:solidFill>
                <a:srgbClr val="ff6600"/>
              </a:solidFill>
              <a:latin typeface="Elephant"/>
            </a:endParaRPr>
          </a:p>
          <a:p>
            <a:pPr lvl="1" marL="743040" indent="-28584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Second Outline Level</a:t>
            </a:r>
            <a:endParaRPr b="0" lang="en-US" sz="3200" spc="-1" strike="noStrike">
              <a:solidFill>
                <a:srgbClr val="ff6600"/>
              </a:solidFill>
              <a:latin typeface="Elephant"/>
            </a:endParaRPr>
          </a:p>
          <a:p>
            <a:pPr lvl="2" marL="1143000" indent="-22860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Third Outline Level</a:t>
            </a:r>
            <a:endParaRPr b="0" lang="en-US" sz="3200" spc="-1" strike="noStrike">
              <a:solidFill>
                <a:srgbClr val="ff6600"/>
              </a:solidFill>
              <a:latin typeface="Elephant"/>
            </a:endParaRPr>
          </a:p>
          <a:p>
            <a:pPr lvl="3" marL="1600200" indent="-22860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Fourth Outline Level</a:t>
            </a:r>
            <a:endParaRPr b="0" lang="en-US" sz="3200" spc="-1" strike="noStrike">
              <a:solidFill>
                <a:srgbClr val="ff6600"/>
              </a:solidFill>
              <a:latin typeface="Elephant"/>
            </a:endParaRPr>
          </a:p>
          <a:p>
            <a:pPr lvl="4" marL="2057400" indent="-22860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Fifth Outline Level</a:t>
            </a:r>
            <a:endParaRPr b="0" lang="en-US" sz="3200" spc="-1" strike="noStrike">
              <a:solidFill>
                <a:srgbClr val="ff6600"/>
              </a:solidFill>
              <a:latin typeface="Elephant"/>
            </a:endParaRPr>
          </a:p>
          <a:p>
            <a:pPr lvl="5" marL="2057400" indent="-228600">
              <a:spcBef>
                <a:spcPts val="799"/>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Sixth Outline Level</a:t>
            </a:r>
            <a:endParaRPr b="0" lang="en-US" sz="3200" spc="-1" strike="noStrike">
              <a:solidFill>
                <a:srgbClr val="ff6600"/>
              </a:solidFill>
              <a:latin typeface="Elephant"/>
            </a:endParaRPr>
          </a:p>
          <a:p>
            <a:pPr lvl="6" marL="2057400" indent="-228600">
              <a:spcBef>
                <a:spcPts val="799"/>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Seventh Outline Level</a:t>
            </a:r>
            <a:endParaRPr b="0" lang="en-US" sz="3200" spc="-1" strike="noStrike">
              <a:solidFill>
                <a:srgbClr val="ff6600"/>
              </a:solidFill>
              <a:latin typeface="Elephant"/>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BB01-3537-44B7-AD80-6B10C55E3A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SOHO Sun Eruptive Prominence"/>
          <p:cNvPicPr/>
          <p:nvPr/>
        </p:nvPicPr>
        <p:blipFill>
          <a:blip r:embed="rId1"/>
          <a:stretch/>
        </p:blipFill>
        <p:spPr>
          <a:xfrm>
            <a:off x="990720" y="0"/>
            <a:ext cx="7467480" cy="7467480"/>
          </a:xfrm>
          <a:prstGeom prst="rect">
            <a:avLst/>
          </a:prstGeom>
          <a:ln w="0">
            <a:noFill/>
          </a:ln>
        </p:spPr>
      </p:pic>
      <p:sp>
        <p:nvSpPr>
          <p:cNvPr id="90" name="PlaceHolder 1"/>
          <p:cNvSpPr>
            <a:spLocks noGrp="1"/>
          </p:cNvSpPr>
          <p:nvPr>
            <p:ph type="title"/>
          </p:nvPr>
        </p:nvSpPr>
        <p:spPr>
          <a:xfrm>
            <a:off x="685800" y="1752120"/>
            <a:ext cx="777240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Elephant"/>
              </a:rPr>
              <a:t>NEIU</a:t>
            </a:r>
            <a:br>
              <a:rPr sz="4000"/>
            </a:br>
            <a:r>
              <a:rPr b="1" lang="en-US" sz="4000" spc="-1" strike="noStrike">
                <a:solidFill>
                  <a:srgbClr val="ffffcc"/>
                </a:solidFill>
                <a:latin typeface="Elephant"/>
              </a:rPr>
              <a:t>NASA ~STEM</a:t>
            </a:r>
            <a:br>
              <a:rPr sz="4000"/>
            </a:br>
            <a:r>
              <a:rPr b="1" lang="en-US" sz="4000" spc="-1" strike="noStrike">
                <a:solidFill>
                  <a:srgbClr val="ffffcc"/>
                </a:solidFill>
                <a:latin typeface="Elephant"/>
              </a:rPr>
              <a:t>Program</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etting Ready!</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SA Goddard Space Flight Center - Aerospace Education Speciali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MINI ME SOLAR SYSTEM"/>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685800" y="456840"/>
            <a:ext cx="777240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Pristina"/>
              </a:rPr>
              <a:t>Questions???  </a:t>
            </a:r>
            <a:r>
              <a:rPr b="1" lang="en-US" sz="9600" spc="-1" strike="noStrike">
                <a:solidFill>
                  <a:srgbClr val="ffff00"/>
                </a:solidFill>
                <a:latin typeface="Wingdings"/>
                <a:ea typeface="Wingdings"/>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STS 108"/>
          <p:cNvPicPr/>
          <p:nvPr/>
        </p:nvPicPr>
        <p:blipFill>
          <a:blip r:embed="rId1">
            <a:lum bright="-20000"/>
          </a:blip>
          <a:stretch/>
        </p:blipFill>
        <p:spPr>
          <a:xfrm>
            <a:off x="2514600" y="228600"/>
            <a:ext cx="4259160" cy="649116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Elephant"/>
              </a:rPr>
              <a:t>WELCOME TO THE NEIU</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ffffff"/>
              </a:buClr>
              <a:buFont typeface="Elephan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INTRODUCTIONS</a:t>
            </a:r>
            <a:endParaRPr b="0" lang="en-US" sz="2400" spc="-1" strike="noStrike">
              <a:solidFill>
                <a:srgbClr val="000000"/>
              </a:solidFill>
              <a:latin typeface="Arial"/>
            </a:endParaRPr>
          </a:p>
          <a:p>
            <a:pPr marL="609480" indent="-609480">
              <a:lnSpc>
                <a:spcPct val="90000"/>
              </a:lnSpc>
              <a:spcBef>
                <a:spcPts val="601"/>
              </a:spcBef>
              <a:buClr>
                <a:srgbClr val="ffffff"/>
              </a:buClr>
              <a:buFont typeface="Elephan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LOGISTIC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sts108-s-006"/>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95" name="PlaceHolder 1"/>
          <p:cNvSpPr>
            <a:spLocks noGrp="1"/>
          </p:cNvSpPr>
          <p:nvPr>
            <p:ph/>
          </p:nvPr>
        </p:nvSpPr>
        <p:spPr>
          <a:xfrm>
            <a:off x="457200" y="1676520"/>
            <a:ext cx="8229600" cy="4449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  Attentive and Prepared</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rough this program, we are working to blend challenging learning with fun activities.  To this end, it is important that all are attentive and prepared throughout the NEIU NASA Endeavour Program.</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ts108-s-006"/>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98" name="PlaceHolder 1"/>
          <p:cNvSpPr>
            <a:spLocks noGrp="1"/>
          </p:cNvSpPr>
          <p:nvPr>
            <p:ph/>
          </p:nvPr>
        </p:nvSpPr>
        <p:spPr>
          <a:xfrm>
            <a:off x="457200" y="1676520"/>
            <a:ext cx="8229600" cy="44496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  Teacher Supervision</a:t>
            </a:r>
            <a:endParaRPr b="0" lang="en-US" sz="3200" spc="-1" strike="noStrike">
              <a:solidFill>
                <a:srgbClr val="000000"/>
              </a:solidFill>
              <a:latin typeface="Arial"/>
            </a:endParaRPr>
          </a:p>
          <a:p>
            <a:pPr marL="609480" indent="-60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udents must be accompanied by teachers at all times.  If a student wishes to be excused for a snack, beverage, or restroom break, they must seek the permission of their teacher before leaving the large group.  If student teams wish to use the computer lab facility, they must be accompanied by their teacher. </a:t>
            </a:r>
            <a:endParaRPr b="0" lang="en-US" sz="3200" spc="-1" strike="noStrike">
              <a:solidFill>
                <a:srgbClr val="000000"/>
              </a:solidFill>
              <a:latin typeface="Arial"/>
            </a:endParaRPr>
          </a:p>
        </p:txBody>
      </p:sp>
      <p:sp>
        <p:nvSpPr>
          <p:cNvPr id="9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sts108-s-006"/>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101" name="PlaceHolder 1"/>
          <p:cNvSpPr>
            <a:spLocks noGrp="1"/>
          </p:cNvSpPr>
          <p:nvPr>
            <p:ph/>
          </p:nvPr>
        </p:nvSpPr>
        <p:spPr>
          <a:xfrm>
            <a:off x="457200" y="1676520"/>
            <a:ext cx="8229600" cy="4449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  Performance Expectations</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will remain the primary responsibility of the teacher to facilitate learning activities with the school team.  Each teacher will work closely with their student teams.  Please establish consistent performance expectations for your school team.  Make sure that our standards remain high!</a:t>
            </a:r>
            <a:endParaRPr b="0" lang="en-US" sz="3200" spc="-1" strike="noStrike">
              <a:solidFill>
                <a:srgbClr val="000000"/>
              </a:solidFill>
              <a:latin typeface="Arial"/>
            </a:endParaRPr>
          </a:p>
        </p:txBody>
      </p:sp>
      <p:sp>
        <p:nvSpPr>
          <p:cNvPr id="10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sts108-s-006"/>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104" name="PlaceHolder 1"/>
          <p:cNvSpPr>
            <a:spLocks noGrp="1"/>
          </p:cNvSpPr>
          <p:nvPr>
            <p:ph/>
          </p:nvPr>
        </p:nvSpPr>
        <p:spPr>
          <a:xfrm>
            <a:off x="457200" y="1676520"/>
            <a:ext cx="8229600" cy="4449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  Models of Learning Procedures</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NEIU ~ NASA Endeavour Program is meant to be an positive learning experience for all and therefore we ask that you model learning procedures that will support the team to be successful as they work through this learning proces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sts108-s-006"/>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107" name="PlaceHolder 1"/>
          <p:cNvSpPr>
            <a:spLocks noGrp="1"/>
          </p:cNvSpPr>
          <p:nvPr>
            <p:ph/>
          </p:nvPr>
        </p:nvSpPr>
        <p:spPr>
          <a:xfrm>
            <a:off x="457200" y="1676520"/>
            <a:ext cx="8229600" cy="4449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5)  Exemplary Work</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f you notice exemplary work by a student or a teacher throughout the Endeavour Program, please let us know!  We will highlight positive performance throughout the yea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sts108-s-006"/>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110" name="PlaceHolder 1"/>
          <p:cNvSpPr>
            <a:spLocks noGrp="1"/>
          </p:cNvSpPr>
          <p:nvPr>
            <p:ph/>
          </p:nvPr>
        </p:nvSpPr>
        <p:spPr>
          <a:xfrm>
            <a:off x="457200" y="1676520"/>
            <a:ext cx="8229600" cy="4449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6)  NEIU NASA STEM Program Success</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success of our program depends upon the success of our students and teachers.  We will maintain the highest level of professionalism throughout this program!</a:t>
            </a:r>
            <a:endParaRPr b="0" lang="en-US" sz="3200" spc="-1" strike="noStrike">
              <a:solidFill>
                <a:srgbClr val="000000"/>
              </a:solidFill>
              <a:latin typeface="Arial"/>
            </a:endParaRPr>
          </a:p>
        </p:txBody>
      </p:sp>
      <p:sp>
        <p:nvSpPr>
          <p:cNvPr id="11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Your Team!</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roughout this school year, you will work as a team to explore </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cientific phenomenon</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ASA Missions that explore the univers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sign a outreach product to educate others about NASA and the work that they do to advance our understanding of the univer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5T01:16:17Z</dcterms:created>
  <dc:creator>NEIU</dc:creator>
  <dc:description/>
  <dc:language>en-US</dc:language>
  <cp:lastModifiedBy>Karla Carlucci</cp:lastModifiedBy>
  <dcterms:modified xsi:type="dcterms:W3CDTF">2012-11-09T15:20:20Z</dcterms:modified>
  <cp:revision>14</cp:revision>
  <dc:subject/>
  <dc:title>Slide 1</dc:title>
</cp:coreProperties>
</file>